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D1A-5BF3-4E06-90BC-5E1D9DA8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878-A271-4C38-B0CD-BE34A80D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65E-EF0B-483B-ABF0-529ACED0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D4F-B4CC-4A82-973E-764D388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A884-3F22-4CFE-9CA1-8D211AC4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81C0-BC32-4136-881C-9AE7E9CB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A872-A9C8-46E2-B044-5FB29E40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E9E-8CF7-4AEC-B9AF-82875264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36B6-DF4E-4CA0-92C4-A4AA0040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37B4-8DFD-4CAF-9BEA-D8890F6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5F83-1DB6-44F5-82E6-CB7E57F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499-150A-4390-9916-DA270B9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9B0C-A0B6-44F3-B709-3DB707D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8EE7-CD52-430F-8737-AA224CA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ADFC-4B32-4855-A522-67070B0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597-E6A9-4964-B59F-068A0B3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F252-F553-48F5-A36E-04B6378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FD4A-2113-4FD5-8F28-60AE4857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6696-584C-453E-A8B9-0A9A44B9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D37B-9F55-46A1-905F-79D5BCDA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49B7-F46D-4A29-BE3C-D8A8A70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3FE0-C51D-4522-B917-458CE0F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E86-C682-4D07-AF13-2FF5C13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80F2-5ED0-4726-BEB6-B9E287B3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8135-E380-4682-82F8-FB09F11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F5B3-4E9C-470B-9712-194447F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50B0-6FD0-4CEB-86EF-111D16F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BEE5-754C-4402-AA2C-556D252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F30C-2F3C-4384-BAA6-5F69207B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C5D7-2524-4EFF-AA48-8E6E6F54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FC9-EF8E-44B9-9366-C740B47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4F2-78F9-4792-9D06-50D403E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E6C-1A9D-480B-87D5-CA581E88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D73-AC8D-43C9-A864-99CF61D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8E6-1722-49AC-9CD6-D20B910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46F-B637-4131-868C-E2DF28B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8D8E-D1BF-45ED-9CB6-DDEB7D7E2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5BE7-C7F3-45B3-85B7-F19847AE4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A4A-ED74-490F-BC5D-1CF8BC20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853560"/>
            <a:ext cx="8226360" cy="23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математической грамотности на уроках би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1680" y="1647360"/>
            <a:ext cx="822636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282920" y="4027320"/>
            <a:ext cx="416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ремина Ольга Александровн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Ключевская СОШ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240" y="358560"/>
            <a:ext cx="82263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график и запишите какая температура была в определенные часы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08e1312ec27d68e495ddc60458e17a91-800x"/>
          <p:cNvPicPr/>
          <p:nvPr/>
        </p:nvPicPr>
        <p:blipFill>
          <a:blip r:embed="rId1"/>
          <a:srcRect l="0" t="5058" r="0" b="0"/>
          <a:stretch/>
        </p:blipFill>
        <p:spPr>
          <a:xfrm>
            <a:off x="1041480" y="1644480"/>
            <a:ext cx="678348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761760"/>
            <a:ext cx="822636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максимальную высоту (в метрах) растения на третий год жизн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get_file"/>
          <p:cNvPicPr/>
          <p:nvPr/>
        </p:nvPicPr>
        <p:blipFill>
          <a:blip r:embed="rId1"/>
          <a:stretch/>
        </p:blipFill>
        <p:spPr>
          <a:xfrm>
            <a:off x="2922480" y="2631960"/>
            <a:ext cx="5272200" cy="3664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301680" y="4202280"/>
            <a:ext cx="240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оказан рост древесного растения умеренного климата в течение нескольких л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WhatsApp Image 2023-10-29 at 21.28.38.jpeg"/>
          <p:cNvPicPr/>
          <p:nvPr/>
        </p:nvPicPr>
        <p:blipFill>
          <a:blip r:embed="rId1"/>
          <a:srcRect l="18247" t="21926" r="8730" b="49300"/>
          <a:stretch/>
        </p:blipFill>
        <p:spPr>
          <a:xfrm>
            <a:off x="1238400" y="334800"/>
            <a:ext cx="6864120" cy="4919760"/>
          </a:xfrm>
          <a:prstGeom prst="rect">
            <a:avLst/>
          </a:prstGeom>
          <a:ln w="0">
            <a:noFill/>
          </a:ln>
        </p:spPr>
      </p:pic>
      <p:pic>
        <p:nvPicPr>
          <p:cNvPr id="152" name="Содержимое 3" descr="WhatsApp Image 2023-10-29 at 21.28.38.jpeg"/>
          <p:cNvPicPr/>
          <p:nvPr/>
        </p:nvPicPr>
        <p:blipFill>
          <a:blip r:embed="rId2"/>
          <a:srcRect l="7218" t="62320" r="17312" b="29915"/>
          <a:stretch/>
        </p:blipFill>
        <p:spPr>
          <a:xfrm>
            <a:off x="971640" y="5315040"/>
            <a:ext cx="7014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1614780279_27-p-prozrachnie-foni-dlya-prezentatsii-3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3519360" y="1782720"/>
            <a:ext cx="53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3080" y="296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ак проблемный элемент в начале уро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По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наблюдение за побегами разных растений одного биологического вида. Оказалось, что один побег вырос за год на 6 см, а другой – в 2 раза больше. Посчитайте, на сколько см. вырос второй побе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объяснить разницу в величине прироста у этих побегов? Назовите как можно больше возможных пр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задание для смены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5400" y="1600200"/>
            <a:ext cx="82263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Ткани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етки эпидермиса лука – 400 мкм. Каков размер клеток волокна льна, если они в 100 раз больше клеток эпидермиса лука? Ответ запишите в вид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задание для смены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троение и жизнедеятельность бакте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я, попав в живой организм, к концу 20-й минуты делится на две бактерии, каждая из них к концу следующих 20 минут делится опять на две и т. д. Сколько бактерий окажется в организме через 1 час, если по истечении этого часа в организм из окружающей среды попала еще одна бактер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2640" y="274320"/>
            <a:ext cx="864684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модель реальной жизненной ситуации, иллюстрирующей необходимость изучения какого либо понятия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400" y="2025720"/>
            <a:ext cx="822636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Условия прорастания сем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заделки семян больше размера семени примерно на 75%. На какую глубину нужно заделать семя фасоли размером в 1.5 см? 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ы интеграции математики и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ые практико-ориентированные задания на обобщающих уро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не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заданий математических минуток на уроке биологии в 6 классе (к УМК: под.ред В.В.Пасечника «Линия жизни»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Царство растения. Внешнее строение и общая характеристика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 около 350 тыс. видов растений, из них 73,9 % – цветковые. Сколько всего видов цветковых растений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1473120" y="4375080"/>
            <a:ext cx="73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58920" y="220680"/>
            <a:ext cx="813276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 математических минуток на уроке биологии в 6 классе (к УМК: под.ред В.В.Пасечника «Линия жизни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Клеточное строение растений. Свойства растительной клетк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3 циклов деления образовалось 24 клетки, определите, сколько клеток было перед началом деления;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 математических минуток на уроке биологии в 6 классе (к УМК: под.ред В.В.Пасечника «Линия жизни»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5120" y="1481040"/>
            <a:ext cx="865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емя, его строение и зна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 №4 «Изучение строения семян однодольных и двудольных растений» Рассмотрите сухое и набухшее семя фасоли. Измерьте линейкой длину и ширину этих семян. Какое семя больше? На сколько % увеличилась длина семени фасоли после набуха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3" descr="IMAG1156_edorig_657741.jpg"/>
          <p:cNvPicPr/>
          <p:nvPr/>
        </p:nvPicPr>
        <p:blipFill>
          <a:blip r:embed="rId1"/>
          <a:stretch/>
        </p:blipFill>
        <p:spPr>
          <a:xfrm>
            <a:off x="4838760" y="4997520"/>
            <a:ext cx="29271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3:21:09Z</dcterms:created>
  <dc:creator>User</dc:creator>
  <dc:description/>
  <dc:language>en-US</dc:language>
  <cp:lastModifiedBy>ПК</cp:lastModifiedBy>
  <dcterms:modified xsi:type="dcterms:W3CDTF">2023-10-30T04:55:08Z</dcterms:modified>
  <cp:revision>183</cp:revision>
  <dc:subject/>
  <dc:title>Презентация PowerPoint</dc:title>
</cp:coreProperties>
</file>